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D08-F04F-44D2-BE4B-88A97EA9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C8D-4B88-4C7A-85DB-9A1D317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14E-05FF-42EA-91E3-B25C612E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B30-1A5A-457E-9FC7-2F0C8B3D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75C-700A-4D0E-B08F-E08EA520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799-CFC1-4390-A460-0C8ECBA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97C-D936-4A54-BC45-4F89877A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8CD-264D-4531-85D4-8D0BD76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E82-4397-46B1-BC04-A17B90DA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0E6-B075-4106-AEAC-8365120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F9B-846D-40A0-8DC6-FE4897B1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1F0-F6D0-4D7D-BD7F-2B4FCBF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A0E1-5A23-41EA-B625-D51CFC81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eve.mills@aims.ed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 121 – College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 121 – College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G11, CRN 4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M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9-62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ve.mills@aims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TV 692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equations and inequalities, functions and their graphs, exponential and logarithmic functions, linear and non-linear systems, graphing of the conic sections, introduction to sequences and series, permutations and combinations, the binomial theorem, theory of equations and an introduction to matrices and determinants.  4 credit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requisi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MAT 106 with a ‘C’ or better, ACT Math score greater than or equal to 19, or assessment 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livan and Sulliva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lege Algebra.  Concepts through Furncio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earson/Prentice-Hall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7, ISBN 0-13-1874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Average –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Quiz Average – 1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/Homework Average – 1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Exam –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– 50% of overall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 through Test 3 – Drop the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4 through Test 6 – Drop the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tter segment will count 2/3 of Test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se segment will count 1/3 of Test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2:41:01Z</dcterms:created>
  <dc:creator>Harry S. Mills</dc:creator>
  <dc:description/>
  <dc:language>en-US</dc:language>
  <cp:lastModifiedBy>Harry S. Mills</cp:lastModifiedBy>
  <dcterms:modified xsi:type="dcterms:W3CDTF">2008-01-13T23:13:27Z</dcterms:modified>
  <cp:revision>2</cp:revision>
  <dc:subject/>
  <dc:title>MAT 121 – College Algebra</dc:title>
</cp:coreProperties>
</file>